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FB8-1F63-46B5-AB95-46979C60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B00-63FB-4EED-89B8-2920640C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029-BE7E-40BD-94CD-882FEFD1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D39-18A5-43EA-9255-87B759BD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8DE-F9B4-4060-8200-3BC99C14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962-B0E5-4FE9-B770-597C4A12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18F-C671-40E2-85F6-BD47A329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21E-8DC0-4B12-966A-F84E8F9D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AD1-20F1-4CAD-9484-C9C9739B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D66-8122-40A3-A2F5-B2BC0627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83B-63BE-4467-8595-BB5969ED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C47-AA38-4003-9FF9-9349EA9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E41A-DE4F-4E2D-92DC-EEB623CA4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video" Target="file:///tmp/home/.config/libreoffice/4/user/gallery/Recorded%20Sound" TargetMode="External"/><Relationship Id="rId6" Type="http://schemas.microsoft.com/office/2007/relationships/media" Target="file:///tmp/home/.config/libreoffice/4/user/gallery/Recorded%20Sound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51055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530800">
            <a:off x="5640840" y="4723920"/>
            <a:ext cx="3124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 Schwe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, January 06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1752480"/>
            <a:ext cx="4343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rawberries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914400"/>
            <a:ext cx="1409760" cy="196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140976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315200" y="990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34340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nd How of Strawber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wberries are mostly grown in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so grown in Canada, Israel, New Zealand, Australi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nited States, California are where strawberries are grown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so grown in Florida, Louisian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wberries originated in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wberry Fact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ore than 600 varieties of strawber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grows about 85% of the strawberries available today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ver 200 seeds on the outside of every strawber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ash strawberries until you are to ea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nal Val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Vitamin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 source of Fi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of other vitamins and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8 strawberries as one serving of fr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Strawberries they are very good for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14600" y="1676520"/>
            <a:ext cx="4576680" cy="29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9000"/>
                  </a:srgbClr>
                </a:solidFill>
                <a:latin typeface="Arial Black"/>
              </a:rPr>
              <a:t>Carr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99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148284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34340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nd How of Carr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ots originated in Near East of Middl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ld carrots are grown the most in Canada, Mexico, and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nited States, carrots are grown the most in Califor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so grown in Florida, Texa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o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ots are related to the celery, parsley and h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ots have more sugar than most other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ots are available all year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nal Val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Vitamin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 source of Vitamin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source of others vitamins and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4:49:46Z</dcterms:created>
  <dc:creator>install</dc:creator>
  <dc:description/>
  <dc:language>en-US</dc:language>
  <cp:lastModifiedBy>install</cp:lastModifiedBy>
  <dcterms:modified xsi:type="dcterms:W3CDTF">2012-01-12T15:10:47Z</dcterms:modified>
  <cp:revision>7</cp:revision>
  <dc:subject/>
  <dc:title>Slide 1</dc:title>
</cp:coreProperties>
</file>